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9D7-715D-4131-92FC-190935C7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896-DB21-4331-BA53-567B3DB7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27A-BCD9-45B6-BDF0-79D03213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135-944A-49E4-8944-B71E7602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136-0953-48CF-B747-BC0FD9FF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A77-7C78-4391-908E-20420EAF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357-E7B3-4A4C-9B98-1F99E01B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3A7-48BA-4D6C-AF10-34E660F6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B99-7932-407A-9093-7ACB6B8A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7ED-94B4-41DE-81A5-3AF11E5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622-D030-4FB4-9F76-203EF42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624-70C9-428B-B02C-5536FD0C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77F3-F571-48A5-90FB-F69B1F8C3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mm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e haben Aschneputtel --Cinderella (am populärsten),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Hansel und Gretel und über 200 weltberühmten Märche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fgeschrieben oder niedergeschreiben.  Sie haben sie nicht selbst geschreiben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und Die Grimm bruder schreiben über 200 weltberühmten Märc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hren namen sind Jacob (1785-1863) und Wilhelm (1786-185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Sie wohnt in hanau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 marchen war schreibt in 1812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hre erste Sammlung von Märchen, "Kinder und Hausmärchen", wurde 1812 veröffentl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hat in die 1700s geleb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hat keine geld wann sie kinder waren - hat Cinderella gepopularisi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457200" y="2286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at in die 1700s geleb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at keine geld wann sie kinder waren - hat Cinderella gepopularisi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hre vater gestorbt wenn ihr zehn w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Geschichte war nicht für Kin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e haben Philosophie an Universität Göttigen oder Marburg studiert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ann Der Bruder jung war, euer vater und grossvater hat gestorb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e sind Märchen nicht Myth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e waren Lexico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7:19:09Z</dcterms:created>
  <dc:creator>Alissa Hart</dc:creator>
  <dc:description/>
  <dc:language>en-US</dc:language>
  <cp:lastModifiedBy>Alissa Hart</cp:lastModifiedBy>
  <dcterms:modified xsi:type="dcterms:W3CDTF">2015-02-06T17:20:06Z</dcterms:modified>
  <cp:revision>1</cp:revision>
  <dc:subject/>
  <dc:title>Grimm Information</dc:title>
</cp:coreProperties>
</file>